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03C-DCFD-4AD6-B41A-87E1A923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E89-5368-433F-8515-98129AFB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C37-65E0-4163-B910-71F48ECA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8CE-960A-4829-A1D1-B54CFB0B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938-4474-4E38-B150-666EEFE1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010-95B7-4F95-8EEC-B9996CD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0F7-C54D-49DA-8902-3DBA6EC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A5F-E531-487D-AAF0-53C28A5D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D81-EA50-4E52-A7D6-DAA1EE6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C85-BC2C-4842-A6C7-72B44B6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B9F-B520-4A2C-8693-276C834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723-46AE-49BE-ACF0-4403F3F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A21-A42F-462B-B39D-E0B2E06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78E-554E-4456-8431-1F33BED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5AC-1B38-47F1-8249-E7B5AF369A1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52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4.xml"/><Relationship Id="rId28" Type="http://schemas.openxmlformats.org/officeDocument/2006/relationships/slide" Target="slide54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es Zaroff stock his island with gam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tricks them into thinking there is a channe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ow does General Zaroff justify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hunting and killing humans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believes he is only hunting the dregs of socie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the end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insford kills Zaroff and sleeps in his b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62120" y="60948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does the author mean by "When he and himself agreed upon anything, the thing was done"? </a:t>
            </a:r>
            <a:br>
              <a:rPr sz="5400"/>
            </a:b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king can have anything he wants and doesn’t have to answer to anyon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>
            <a:hlinkClick r:id="rId1" action="ppaction://hlinksldjump"/>
          </p:cNvPr>
          <p:cNvSpPr/>
          <p:nvPr/>
        </p:nvSpPr>
        <p:spPr>
          <a:xfrm>
            <a:off x="0" y="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8380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had the princess found out what was behind each do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e used gold to bribe someone who kne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story has an open ending, what does that m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53352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uthor doesn’t wrap everything up. He lets the reader decide what happen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>
            <a:hlinkClick r:id="rId1" action="ppaction://hlinksldjump"/>
          </p:cNvPr>
          <p:cNvSpPr/>
          <p:nvPr/>
        </p:nvSpPr>
        <p:spPr>
          <a:xfrm>
            <a:off x="0" y="-6094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9907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different types of conflicts in literatu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762120"/>
            <a:ext cx="78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Man vs. man, man vs. nature, man vs. man, man vs. self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12193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33"/>
                </a:solidFill>
                <a:latin typeface="Times New Roman"/>
              </a:rPr>
              <a:t>Why was the man in the arena?</a:t>
            </a:r>
            <a:endParaRPr b="1" lang="en-US" sz="9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4572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had fallen in love with the Princess and the King didn’t approv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6094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does the name "Fortunato" suggest? Why won’t the narrator tolerate insult without seeking revenge?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6858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tune, he takes it as an insult against his entire family and ancesto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narrator offers some advice on seeking revenge. What is his advi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 do i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B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D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C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ategory A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ow does the narrator behave around his "friend" Fortunato?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phony nic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609480"/>
            <a:ext cx="8077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at we know about the narrator? (Describe his social class, his attitude toward himself and others, his understanding of others?)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y do you think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Poe chose "dusk"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nd the carnival season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s part of the setting for this sto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53352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usk represents the beginning of darkness, symbolic of evil and the end of life in this sto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9144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ortunato is wearing a costume similar to that of a jester, why is this ironic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dressed as a clown, yet getting ready to kil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the author of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Cask of Amontillado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62120" y="1981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dgar Allen Po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533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one other thing Poe wrote. (We didn’t read it in here, but we watched it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-763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12920" y="940320"/>
            <a:ext cx="846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does Whitney function as a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ns of foreshadowing in the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ave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Ton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one is the attitude a writer takes towards a subject or character: serious, humorous, sarcastic, ironic, satirical, tongue-in-cheek, solemn, objective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Moo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Mood is the feeling that a work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of literature evokes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personificatio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iving human qualities to non-human thing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etting of </a:t>
            </a:r>
            <a:r>
              <a:rPr b="1" i="1" lang="en-US" sz="7200" spc="-1" strike="noStrike">
                <a:solidFill>
                  <a:srgbClr val="ff9933"/>
                </a:solidFill>
                <a:latin typeface="Times New Roman"/>
              </a:rPr>
              <a:t>The Most Dangerous Game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hip-trap Islan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d Rainsford’s attitude about hunting chang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304920"/>
            <a:ext cx="784872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His function is to let the reader know the legend of the island, so we can predict what will happen nex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09480" y="685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es, he learned to empathize with the hun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-8380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protagonist, who is a protagonist in one of our sto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ainsfor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1143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fine Antagonist, who is an antagonist from our sto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King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>
            <a:hlinkClick r:id="" action="ppaction://hlinkshowjump?jump=las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ile reading </a:t>
            </a:r>
            <a:r>
              <a:rPr b="1" i="1" lang="en-US" sz="6000" spc="-1" strike="noStrike">
                <a:solidFill>
                  <a:srgbClr val="ff9933"/>
                </a:solidFill>
                <a:latin typeface="Times New Roman"/>
              </a:rPr>
              <a:t>The Cask of Amontillado</a:t>
            </a: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, we discussed gothic elements, what are some of the gothic elements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7621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Doubles, twins, ghosts, storms/fog, haunted houses, hidden rooms, century old vendettas, curses, people going craz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how Rainsford ends up on the islan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76212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drops his pipe and lunges for it, falling into the wat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62120" y="8380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scribe General Zaroff’s appearance and personalit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09480" y="4572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is obviously wealthy and well-educated. He never yells and is always polite to Rainsfor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itchfield</cp:lastModifiedBy>
  <dcterms:modified xsi:type="dcterms:W3CDTF">2009-09-15T22:53:13Z</dcterms:modified>
  <cp:revision>32</cp:revision>
  <dc:subject/>
  <dc:title>No Slide Title</dc:title>
</cp:coreProperties>
</file>